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10.wmf" ContentType="image/x-wmf"/>
  <Override PartName="/ppt/media/image4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62.wmf" ContentType="image/x-wmf"/>
  <Override PartName="/ppt/media/image25.wmf" ContentType="image/x-wmf"/>
  <Override PartName="/ppt/media/image60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22.wmf" ContentType="image/x-wmf"/>
  <Override PartName="/ppt/media/image59.wmf" ContentType="image/x-wmf"/>
  <Override PartName="/ppt/media/image57.wmf" ContentType="image/x-wmf"/>
  <Override PartName="/ppt/media/image20.wmf" ContentType="image/x-wmf"/>
  <Override PartName="/ppt/media/image61.wmf" ContentType="image/x-wmf"/>
  <Override PartName="/ppt/media/image24.wmf" ContentType="image/x-wmf"/>
  <Override PartName="/ppt/media/image31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D450-E3CB-4FE8-8192-60FF40800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C75A-6E56-41AC-AEEF-CDF375EB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49BB-1745-4520-9E42-29239D309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EE05-F8B5-441E-885E-D02FF613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CE4D-2AEA-4BBE-878D-B77664EC7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606A-78BA-4498-8083-612BB893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D9FF-7269-43C0-B03A-ACFD28FA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8BE1-A42B-4632-B8BB-4DF7D27D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24A8-A740-4325-BB5B-A39A67E3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FC63-381E-4848-A226-F80E2AC0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A760-62F2-496C-B68B-9E2D3196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2957-4A6C-4F3A-BEF8-D1BD3239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60D8-9FF0-4337-8ED4-BF7F1A11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845B-EA18-46E5-9C48-59607B29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E200-9C92-4797-9858-A27F84F2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004D-85EE-4B69-9885-7A53BD3F8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4083-7AE3-4582-8461-1B0792D8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62C0-C41C-4D18-867B-D725F2D2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A026-6A9D-4B0D-98FB-91D42EF1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F488-1D72-4621-BEB0-084AFCB5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6E93-7FE4-4CAC-B1FB-84C1FEFD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4450-E185-4B96-AFF8-3DEE6CE2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7DC6-8E39-4D44-BAEC-D0482E2B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BA30-6E5D-44B9-B435-780AF9C5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BF36-4ABF-4A8B-9A0B-2A02957C981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109F-27BB-449B-A0A1-179A0FEF76F2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E056-00B1-49D1-8D06-555431004A55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0000"/>
                </a:solidFill>
                <a:latin typeface="Times New Roman"/>
              </a:rPr>
              <a:t>Системы линейных алгебраических уравнений: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совместность( теорема Кронекера –Каппели), число решений, решение методом Гаус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EAC6-AE2E-49F1-ADE0-CD93552D6CA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истемы любого числа линейных алгебраических уравнений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62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стема совместн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зисными неизвестными объявить те, номера которых совпадут с номерами базисных столбцов ступенчатого вида матрицы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содержащих опорные элементы этой матрицы; остальные неизвестные объявить свободным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сло свободных неизвестных равн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йти к выполнению следующего шаг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Object 4"/>
          <p:cNvGraphicFramePr/>
          <p:nvPr/>
        </p:nvGraphicFramePr>
        <p:xfrm>
          <a:off x="6659640" y="4653000"/>
          <a:ext cx="1944720" cy="5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4653000"/>
                    <a:ext cx="194472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3DCF-BD33-4DE6-9BAA-634755E3363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истемы любого числа линейных алгебраических уравнений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ести ступенчатую матрицу, полученную при выполнении шага 1),   к виду Гаусс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исать систему линейных уравнений, соответствующую матрице, построенной на шаге 3),  обозначив свободные неизвестны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разить из полученной системы базисные неизвестные через свободные неизвестны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исать ответ, воспользовавшись  или  векторной формой записи (5), или координатной формой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5867280" y="3284640"/>
          <a:ext cx="151308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3284640"/>
                    <a:ext cx="151308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Rectangle 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Object 6"/>
          <p:cNvGraphicFramePr/>
          <p:nvPr/>
        </p:nvGraphicFramePr>
        <p:xfrm>
          <a:off x="2484360" y="5373720"/>
          <a:ext cx="4896000" cy="62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5373720"/>
                    <a:ext cx="48960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A66A-AC37-43BA-9B99-F95E8C0A607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истемы любого числа линейных алгебраических уравнений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З а м е ч а н и е 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Применение метода Гаусса не требует, чтобы матрица системы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была квадратной и предварительного вычисления ее определител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77A1-179A-41EB-8E3B-95EB052EF3F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2920" y="1773360"/>
            <a:ext cx="88581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Times New Roman"/>
              </a:rPr>
              <a:t>П р и м е р  1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Для систем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Object 4"/>
          <p:cNvGraphicFramePr/>
          <p:nvPr/>
        </p:nvGraphicFramePr>
        <p:xfrm>
          <a:off x="2916360" y="2349360"/>
          <a:ext cx="2736720" cy="18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2349360"/>
                    <a:ext cx="2736720" cy="18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Rectangle 7"/>
          <p:cNvSpPr/>
          <p:nvPr/>
        </p:nvSpPr>
        <p:spPr>
          <a:xfrm>
            <a:off x="108000" y="436464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казать матрицу системы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ru-RU" sz="2400" spc="-1" strike="noStrike">
                <a:solidFill>
                  <a:srgbClr val="003300"/>
                </a:solidFill>
                <a:latin typeface="Arial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и столбец свободных член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Object 6"/>
          <p:cNvGraphicFramePr/>
          <p:nvPr/>
        </p:nvGraphicFramePr>
        <p:xfrm>
          <a:off x="8521560" y="4286160"/>
          <a:ext cx="349560" cy="48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21560" y="4286160"/>
                    <a:ext cx="34956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8"/>
          <p:cNvSpPr/>
          <p:nvPr/>
        </p:nvSpPr>
        <p:spPr>
          <a:xfrm>
            <a:off x="137160" y="4796280"/>
            <a:ext cx="56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исать систему в векторной форм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470880" y="544428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00"/>
                </a:solidFill>
                <a:uFillTx/>
                <a:latin typeface="Times New Roman"/>
              </a:rPr>
              <a:t>Р е ш е н и 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бозначим столбец неизвестных 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0060-A7A2-49D9-AC0F-9AD92D4E3F3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гда матрица </a:t>
            </a:r>
            <a:r>
              <a:rPr b="0" i="1" lang="ru-RU" sz="2400" spc="-1" strike="noStrike">
                <a:solidFill>
                  <a:srgbClr val="0033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рассматриваемой системы составляется из числовых коэффициентов, стоящих в системе при неизвестны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Object 4"/>
          <p:cNvGraphicFramePr/>
          <p:nvPr/>
        </p:nvGraphicFramePr>
        <p:xfrm>
          <a:off x="3635280" y="1844640"/>
          <a:ext cx="1236600" cy="16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844640"/>
                    <a:ext cx="123660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Rectangle 7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Object 6"/>
          <p:cNvGraphicFramePr/>
          <p:nvPr/>
        </p:nvGraphicFramePr>
        <p:xfrm>
          <a:off x="3132000" y="4365720"/>
          <a:ext cx="2880000" cy="180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4365720"/>
                    <a:ext cx="288000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2920-ECE0-40F7-A6B0-7CAA423F5FD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лбец      составляется из свободных членов системы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Object 4"/>
          <p:cNvGraphicFramePr/>
          <p:nvPr/>
        </p:nvGraphicFramePr>
        <p:xfrm>
          <a:off x="2195640" y="1773360"/>
          <a:ext cx="36036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773360"/>
                    <a:ext cx="3603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Rectangle 7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Object 6"/>
          <p:cNvGraphicFramePr/>
          <p:nvPr/>
        </p:nvGraphicFramePr>
        <p:xfrm>
          <a:off x="3780000" y="2276640"/>
          <a:ext cx="1319040" cy="180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2276640"/>
                    <a:ext cx="131904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8"/>
          <p:cNvSpPr/>
          <p:nvPr/>
        </p:nvSpPr>
        <p:spPr>
          <a:xfrm>
            <a:off x="539640" y="42375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этому систему можно переписать в векторной форме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Object 9"/>
          <p:cNvGraphicFramePr/>
          <p:nvPr/>
        </p:nvGraphicFramePr>
        <p:xfrm>
          <a:off x="3780000" y="4653000"/>
          <a:ext cx="151128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1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0000" y="4653000"/>
                    <a:ext cx="1511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Rectangle 12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Object 11"/>
          <p:cNvGraphicFramePr/>
          <p:nvPr/>
        </p:nvGraphicFramePr>
        <p:xfrm>
          <a:off x="1979640" y="5229360"/>
          <a:ext cx="1790640" cy="1118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4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9640" y="5229360"/>
                    <a:ext cx="1790640" cy="11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Rectangle 1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Object 13"/>
          <p:cNvGraphicFramePr/>
          <p:nvPr/>
        </p:nvGraphicFramePr>
        <p:xfrm>
          <a:off x="3924360" y="5229360"/>
          <a:ext cx="844560" cy="1150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7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24360" y="5229360"/>
                    <a:ext cx="84456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Rectangle 1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Object 15"/>
          <p:cNvGraphicFramePr/>
          <p:nvPr/>
        </p:nvGraphicFramePr>
        <p:xfrm>
          <a:off x="5003640" y="5589720"/>
          <a:ext cx="1079640" cy="371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0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3640" y="5589720"/>
                    <a:ext cx="107964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Rectangle 17"/>
          <p:cNvSpPr/>
          <p:nvPr/>
        </p:nvSpPr>
        <p:spPr>
          <a:xfrm>
            <a:off x="613080" y="5444280"/>
            <a:ext cx="164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т в е т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F97F-07BB-49E9-87BD-A2280422DBF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Times New Roman"/>
              </a:rPr>
              <a:t>П р и м е р  2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Исследовать на совместность систем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Object 4"/>
          <p:cNvGraphicFramePr/>
          <p:nvPr/>
        </p:nvGraphicFramePr>
        <p:xfrm>
          <a:off x="3348000" y="2276640"/>
          <a:ext cx="2448000" cy="16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276640"/>
                    <a:ext cx="2448000" cy="16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6"/>
          <p:cNvSpPr/>
          <p:nvPr/>
        </p:nvSpPr>
        <p:spPr>
          <a:xfrm>
            <a:off x="468360" y="3933000"/>
            <a:ext cx="24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Р е ш е н и е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Object 7"/>
          <p:cNvGraphicFramePr/>
          <p:nvPr/>
        </p:nvGraphicFramePr>
        <p:xfrm>
          <a:off x="1042920" y="4437000"/>
          <a:ext cx="1343160" cy="18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4437000"/>
                    <a:ext cx="13431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Rectangle 10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Object 9"/>
          <p:cNvGraphicFramePr/>
          <p:nvPr/>
        </p:nvGraphicFramePr>
        <p:xfrm>
          <a:off x="2916360" y="4508640"/>
          <a:ext cx="4319640" cy="175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16360" y="4508640"/>
                    <a:ext cx="4319640" cy="17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F04E-FE9F-453B-8651-68462308A5D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им шаг 1) метода Гаусс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Object 4"/>
          <p:cNvGraphicFramePr/>
          <p:nvPr/>
        </p:nvGraphicFramePr>
        <p:xfrm>
          <a:off x="539640" y="2276640"/>
          <a:ext cx="7848720" cy="14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276640"/>
                    <a:ext cx="784872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Line 6"/>
          <p:cNvSpPr/>
          <p:nvPr/>
        </p:nvSpPr>
        <p:spPr>
          <a:xfrm>
            <a:off x="3851280" y="2708280"/>
            <a:ext cx="0" cy="289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7"/>
          <p:cNvSpPr/>
          <p:nvPr/>
        </p:nvSpPr>
        <p:spPr>
          <a:xfrm flipH="1">
            <a:off x="3564000" y="2997360"/>
            <a:ext cx="2872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8"/>
          <p:cNvSpPr/>
          <p:nvPr/>
        </p:nvSpPr>
        <p:spPr>
          <a:xfrm>
            <a:off x="4356000" y="2708280"/>
            <a:ext cx="0" cy="792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9"/>
          <p:cNvSpPr/>
          <p:nvPr/>
        </p:nvSpPr>
        <p:spPr>
          <a:xfrm flipH="1">
            <a:off x="3564000" y="3500280"/>
            <a:ext cx="79200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0"/>
          <p:cNvSpPr/>
          <p:nvPr/>
        </p:nvSpPr>
        <p:spPr>
          <a:xfrm>
            <a:off x="7812000" y="3141720"/>
            <a:ext cx="0" cy="288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1"/>
          <p:cNvSpPr/>
          <p:nvPr/>
        </p:nvSpPr>
        <p:spPr>
          <a:xfrm flipH="1">
            <a:off x="7524720" y="3429000"/>
            <a:ext cx="2872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13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Object 12"/>
          <p:cNvGraphicFramePr/>
          <p:nvPr/>
        </p:nvGraphicFramePr>
        <p:xfrm>
          <a:off x="971640" y="3860640"/>
          <a:ext cx="3095640" cy="157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9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3860640"/>
                    <a:ext cx="309564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Line 14"/>
          <p:cNvSpPr/>
          <p:nvPr/>
        </p:nvSpPr>
        <p:spPr>
          <a:xfrm>
            <a:off x="1547640" y="4292640"/>
            <a:ext cx="360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5"/>
          <p:cNvSpPr/>
          <p:nvPr/>
        </p:nvSpPr>
        <p:spPr>
          <a:xfrm>
            <a:off x="1908000" y="4292640"/>
            <a:ext cx="0" cy="576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6"/>
          <p:cNvSpPr/>
          <p:nvPr/>
        </p:nvSpPr>
        <p:spPr>
          <a:xfrm>
            <a:off x="1908000" y="4869000"/>
            <a:ext cx="1440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7"/>
          <p:cNvSpPr/>
          <p:nvPr/>
        </p:nvSpPr>
        <p:spPr>
          <a:xfrm>
            <a:off x="3276720" y="4005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8"/>
          <p:cNvSpPr/>
          <p:nvPr/>
        </p:nvSpPr>
        <p:spPr>
          <a:xfrm>
            <a:off x="3348000" y="4869000"/>
            <a:ext cx="0" cy="43164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19"/>
          <p:cNvSpPr/>
          <p:nvPr/>
        </p:nvSpPr>
        <p:spPr>
          <a:xfrm>
            <a:off x="3348000" y="5300640"/>
            <a:ext cx="647640" cy="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0"/>
          <p:cNvSpPr/>
          <p:nvPr/>
        </p:nvSpPr>
        <p:spPr>
          <a:xfrm>
            <a:off x="4213440" y="4867920"/>
            <a:ext cx="23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овательно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Object 22"/>
          <p:cNvGraphicFramePr/>
          <p:nvPr/>
        </p:nvGraphicFramePr>
        <p:xfrm>
          <a:off x="755640" y="5373720"/>
          <a:ext cx="3240000" cy="69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8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5373720"/>
                    <a:ext cx="324000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21"/>
          <p:cNvGraphicFramePr/>
          <p:nvPr/>
        </p:nvGraphicFramePr>
        <p:xfrm>
          <a:off x="4572000" y="5373720"/>
          <a:ext cx="2232000" cy="65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0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5373720"/>
                    <a:ext cx="223200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Rectangle 23"/>
          <p:cNvSpPr/>
          <p:nvPr/>
        </p:nvSpPr>
        <p:spPr>
          <a:xfrm>
            <a:off x="0" y="303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24"/>
          <p:cNvSpPr/>
          <p:nvPr/>
        </p:nvSpPr>
        <p:spPr>
          <a:xfrm>
            <a:off x="3992400" y="5443920"/>
            <a:ext cx="6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25"/>
          <p:cNvSpPr/>
          <p:nvPr/>
        </p:nvSpPr>
        <p:spPr>
          <a:xfrm>
            <a:off x="1188720" y="5804640"/>
            <a:ext cx="447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т в е т:   система несовместн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4A09-C238-499D-8FF5-4828CB5C044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Times New Roman"/>
              </a:rPr>
              <a:t>П р и м е р  3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Решить систем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900000" y="3932280"/>
            <a:ext cx="524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 е ш е н и е.   В данном случае имее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Object 7"/>
          <p:cNvGraphicFramePr/>
          <p:nvPr/>
        </p:nvGraphicFramePr>
        <p:xfrm>
          <a:off x="684360" y="4508640"/>
          <a:ext cx="1236600" cy="165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508640"/>
                    <a:ext cx="1236600" cy="16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Rectangle 10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Object 9"/>
          <p:cNvGraphicFramePr/>
          <p:nvPr/>
        </p:nvGraphicFramePr>
        <p:xfrm>
          <a:off x="1995480" y="4508640"/>
          <a:ext cx="2482920" cy="16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95480" y="4508640"/>
                    <a:ext cx="248292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Rectangle 12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6" name="Object 11"/>
          <p:cNvGraphicFramePr/>
          <p:nvPr/>
        </p:nvGraphicFramePr>
        <p:xfrm>
          <a:off x="4600440" y="4508640"/>
          <a:ext cx="1351080" cy="158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7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00440" y="4508640"/>
                    <a:ext cx="135108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Rectangle 13"/>
          <p:cNvSpPr/>
          <p:nvPr/>
        </p:nvSpPr>
        <p:spPr>
          <a:xfrm>
            <a:off x="6227640" y="5012280"/>
            <a:ext cx="29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лбец свободных членов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Object 14"/>
          <p:cNvGraphicFramePr/>
          <p:nvPr/>
        </p:nvGraphicFramePr>
        <p:xfrm>
          <a:off x="2987640" y="2225520"/>
          <a:ext cx="2592360" cy="175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0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87640" y="2225520"/>
                    <a:ext cx="2592360" cy="17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870C-5947-48AA-81EA-382EDF5483C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4" name="Object 4"/>
          <p:cNvGraphicFramePr/>
          <p:nvPr/>
        </p:nvGraphicFramePr>
        <p:xfrm>
          <a:off x="324000" y="2014560"/>
          <a:ext cx="8569080" cy="15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014560"/>
                    <a:ext cx="8569080" cy="15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Line 6"/>
          <p:cNvSpPr/>
          <p:nvPr/>
        </p:nvSpPr>
        <p:spPr>
          <a:xfrm>
            <a:off x="3059280" y="2133720"/>
            <a:ext cx="0" cy="129528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7"/>
          <p:cNvSpPr/>
          <p:nvPr/>
        </p:nvSpPr>
        <p:spPr>
          <a:xfrm>
            <a:off x="7164360" y="2133720"/>
            <a:ext cx="0" cy="129528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8"/>
          <p:cNvSpPr/>
          <p:nvPr/>
        </p:nvSpPr>
        <p:spPr>
          <a:xfrm>
            <a:off x="3924360" y="2492280"/>
            <a:ext cx="0" cy="289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9"/>
          <p:cNvSpPr/>
          <p:nvPr/>
        </p:nvSpPr>
        <p:spPr>
          <a:xfrm flipH="1">
            <a:off x="3563640" y="2781360"/>
            <a:ext cx="360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10"/>
          <p:cNvSpPr/>
          <p:nvPr/>
        </p:nvSpPr>
        <p:spPr>
          <a:xfrm flipH="1">
            <a:off x="3563640" y="3284640"/>
            <a:ext cx="9349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11"/>
          <p:cNvSpPr/>
          <p:nvPr/>
        </p:nvSpPr>
        <p:spPr>
          <a:xfrm>
            <a:off x="4500720" y="2492280"/>
            <a:ext cx="0" cy="792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12"/>
          <p:cNvSpPr/>
          <p:nvPr/>
        </p:nvSpPr>
        <p:spPr>
          <a:xfrm>
            <a:off x="8244000" y="2997360"/>
            <a:ext cx="0" cy="288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13"/>
          <p:cNvSpPr/>
          <p:nvPr/>
        </p:nvSpPr>
        <p:spPr>
          <a:xfrm flipH="1">
            <a:off x="7884720" y="3284640"/>
            <a:ext cx="360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15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14"/>
          <p:cNvGraphicFramePr/>
          <p:nvPr/>
        </p:nvGraphicFramePr>
        <p:xfrm>
          <a:off x="395280" y="3811680"/>
          <a:ext cx="8497800" cy="175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3811680"/>
                    <a:ext cx="8497800" cy="17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Line 16"/>
          <p:cNvSpPr/>
          <p:nvPr/>
        </p:nvSpPr>
        <p:spPr>
          <a:xfrm>
            <a:off x="2843280" y="4005360"/>
            <a:ext cx="0" cy="129528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7"/>
          <p:cNvSpPr/>
          <p:nvPr/>
        </p:nvSpPr>
        <p:spPr>
          <a:xfrm>
            <a:off x="3924360" y="4724280"/>
            <a:ext cx="0" cy="289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8"/>
          <p:cNvSpPr/>
          <p:nvPr/>
        </p:nvSpPr>
        <p:spPr>
          <a:xfrm>
            <a:off x="4427640" y="4149720"/>
            <a:ext cx="0" cy="863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19"/>
          <p:cNvSpPr/>
          <p:nvPr/>
        </p:nvSpPr>
        <p:spPr>
          <a:xfrm flipH="1">
            <a:off x="3635280" y="4724280"/>
            <a:ext cx="2872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20"/>
          <p:cNvSpPr/>
          <p:nvPr/>
        </p:nvSpPr>
        <p:spPr>
          <a:xfrm flipH="1">
            <a:off x="3634920" y="4149720"/>
            <a:ext cx="79380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54DB-A05B-430E-81CF-FF30C5EECB0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истемы любого числа линейных алгебраических уравнений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828800"/>
            <a:ext cx="8640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О п р е д е л е н и е  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Системой линейных алгебраических уравне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состоящей из 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уравнений с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еизвестными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i="1" lang="ru-RU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,…,х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ывается система вид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2124000" y="3197160"/>
          <a:ext cx="4464000" cy="26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197160"/>
                    <a:ext cx="446400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Rectangle 6"/>
          <p:cNvSpPr/>
          <p:nvPr/>
        </p:nvSpPr>
        <p:spPr>
          <a:xfrm>
            <a:off x="7596720" y="4004640"/>
            <a:ext cx="80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(1)</a:t>
            </a:r>
            <a:r>
              <a:rPr b="0" lang="ru-RU" sz="48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1778-F92F-4EB8-A660-52EBF5544E0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4436640"/>
            <a:ext cx="8229600" cy="16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т в е т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6" name="Object 4"/>
          <p:cNvGraphicFramePr/>
          <p:nvPr/>
        </p:nvGraphicFramePr>
        <p:xfrm>
          <a:off x="324000" y="2349360"/>
          <a:ext cx="6553080" cy="16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349360"/>
                    <a:ext cx="655308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Rectangle 7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Object 6"/>
          <p:cNvGraphicFramePr/>
          <p:nvPr/>
        </p:nvGraphicFramePr>
        <p:xfrm>
          <a:off x="6948360" y="2276640"/>
          <a:ext cx="1314720" cy="17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48360" y="2276640"/>
                    <a:ext cx="131472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Line 8"/>
          <p:cNvSpPr/>
          <p:nvPr/>
        </p:nvSpPr>
        <p:spPr>
          <a:xfrm>
            <a:off x="2484360" y="2492280"/>
            <a:ext cx="0" cy="129564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9"/>
          <p:cNvSpPr/>
          <p:nvPr/>
        </p:nvSpPr>
        <p:spPr>
          <a:xfrm>
            <a:off x="5796000" y="2492280"/>
            <a:ext cx="0" cy="129564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11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4" name="Object 10"/>
          <p:cNvGraphicFramePr/>
          <p:nvPr/>
        </p:nvGraphicFramePr>
        <p:xfrm>
          <a:off x="2050920" y="4508640"/>
          <a:ext cx="4248360" cy="59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5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0920" y="4508640"/>
                    <a:ext cx="4248360" cy="59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F4D3-6A89-46A6-99A2-CD43E2317B6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50560" y="1828800"/>
            <a:ext cx="84358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Times New Roman"/>
              </a:rPr>
              <a:t>П р и м е р  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Исследовать на совместность и решить систем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Object 4"/>
          <p:cNvGraphicFramePr/>
          <p:nvPr/>
        </p:nvGraphicFramePr>
        <p:xfrm>
          <a:off x="1332000" y="2781360"/>
          <a:ext cx="6119640" cy="27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781360"/>
                    <a:ext cx="6119640" cy="27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3B13-DC60-49EA-9EEA-3458CC5551C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Р е ш е н и 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оспользуемся методом Гаусса: составим матрицу 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рассматриваемой системы, столбец свободных членов        и преобразуем расширенную матрицу            к виду Гаусс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Object 4"/>
          <p:cNvGraphicFramePr/>
          <p:nvPr/>
        </p:nvGraphicFramePr>
        <p:xfrm>
          <a:off x="3564000" y="2565360"/>
          <a:ext cx="30780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2565360"/>
                    <a:ext cx="3078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Rectangle 6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0" name="Object 7"/>
          <p:cNvGraphicFramePr/>
          <p:nvPr/>
        </p:nvGraphicFramePr>
        <p:xfrm>
          <a:off x="2124000" y="2852640"/>
          <a:ext cx="863640" cy="59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2852640"/>
                    <a:ext cx="86364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Rectangle 10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Object 9"/>
          <p:cNvGraphicFramePr/>
          <p:nvPr/>
        </p:nvGraphicFramePr>
        <p:xfrm>
          <a:off x="324000" y="3605040"/>
          <a:ext cx="8569080" cy="212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3605040"/>
                    <a:ext cx="8569080" cy="21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Line 11"/>
          <p:cNvSpPr/>
          <p:nvPr/>
        </p:nvSpPr>
        <p:spPr>
          <a:xfrm>
            <a:off x="3780000" y="4005360"/>
            <a:ext cx="0" cy="936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2"/>
          <p:cNvSpPr/>
          <p:nvPr/>
        </p:nvSpPr>
        <p:spPr>
          <a:xfrm>
            <a:off x="4140360" y="4005360"/>
            <a:ext cx="0" cy="1439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13"/>
          <p:cNvSpPr/>
          <p:nvPr/>
        </p:nvSpPr>
        <p:spPr>
          <a:xfrm>
            <a:off x="8244000" y="4581360"/>
            <a:ext cx="0" cy="863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4"/>
          <p:cNvSpPr/>
          <p:nvPr/>
        </p:nvSpPr>
        <p:spPr>
          <a:xfrm flipH="1">
            <a:off x="3563640" y="5445000"/>
            <a:ext cx="576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5"/>
          <p:cNvSpPr/>
          <p:nvPr/>
        </p:nvSpPr>
        <p:spPr>
          <a:xfrm flipH="1">
            <a:off x="7956720" y="5445000"/>
            <a:ext cx="2887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6"/>
          <p:cNvSpPr/>
          <p:nvPr/>
        </p:nvSpPr>
        <p:spPr>
          <a:xfrm flipH="1">
            <a:off x="7956360" y="4869000"/>
            <a:ext cx="21564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7"/>
          <p:cNvSpPr/>
          <p:nvPr/>
        </p:nvSpPr>
        <p:spPr>
          <a:xfrm flipH="1">
            <a:off x="3564000" y="4941720"/>
            <a:ext cx="21744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8"/>
          <p:cNvSpPr/>
          <p:nvPr/>
        </p:nvSpPr>
        <p:spPr>
          <a:xfrm flipH="1">
            <a:off x="3563640" y="4365720"/>
            <a:ext cx="144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9"/>
          <p:cNvSpPr/>
          <p:nvPr/>
        </p:nvSpPr>
        <p:spPr>
          <a:xfrm>
            <a:off x="8172360" y="4581360"/>
            <a:ext cx="0" cy="287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20"/>
          <p:cNvSpPr/>
          <p:nvPr/>
        </p:nvSpPr>
        <p:spPr>
          <a:xfrm>
            <a:off x="3708360" y="4005360"/>
            <a:ext cx="0" cy="358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21"/>
          <p:cNvSpPr/>
          <p:nvPr/>
        </p:nvSpPr>
        <p:spPr>
          <a:xfrm>
            <a:off x="3059280" y="3716280"/>
            <a:ext cx="0" cy="1873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22"/>
          <p:cNvSpPr/>
          <p:nvPr/>
        </p:nvSpPr>
        <p:spPr>
          <a:xfrm>
            <a:off x="7451640" y="3716280"/>
            <a:ext cx="0" cy="1873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A681-A790-4BDE-9356-B920FE0C0CF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0" name="Object 4"/>
          <p:cNvGraphicFramePr/>
          <p:nvPr/>
        </p:nvGraphicFramePr>
        <p:xfrm>
          <a:off x="539640" y="1916280"/>
          <a:ext cx="8136000" cy="193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16280"/>
                    <a:ext cx="8136000" cy="19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Rectangle 7"/>
          <p:cNvSpPr/>
          <p:nvPr/>
        </p:nvSpPr>
        <p:spPr>
          <a:xfrm>
            <a:off x="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Object 6"/>
          <p:cNvGraphicFramePr/>
          <p:nvPr/>
        </p:nvGraphicFramePr>
        <p:xfrm>
          <a:off x="324000" y="4005360"/>
          <a:ext cx="8280360" cy="26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4005360"/>
                    <a:ext cx="8280360" cy="26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Line 11"/>
          <p:cNvSpPr/>
          <p:nvPr/>
        </p:nvSpPr>
        <p:spPr>
          <a:xfrm flipH="1">
            <a:off x="8028000" y="3068640"/>
            <a:ext cx="21600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12"/>
          <p:cNvSpPr/>
          <p:nvPr/>
        </p:nvSpPr>
        <p:spPr>
          <a:xfrm flipH="1">
            <a:off x="8028000" y="3573360"/>
            <a:ext cx="21600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13"/>
          <p:cNvSpPr/>
          <p:nvPr/>
        </p:nvSpPr>
        <p:spPr>
          <a:xfrm>
            <a:off x="8244000" y="3068640"/>
            <a:ext cx="0" cy="504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14"/>
          <p:cNvSpPr/>
          <p:nvPr/>
        </p:nvSpPr>
        <p:spPr>
          <a:xfrm>
            <a:off x="3492360" y="5084640"/>
            <a:ext cx="0" cy="287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15"/>
          <p:cNvSpPr/>
          <p:nvPr/>
        </p:nvSpPr>
        <p:spPr>
          <a:xfrm flipH="1">
            <a:off x="3276360" y="5084640"/>
            <a:ext cx="21564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16"/>
          <p:cNvSpPr/>
          <p:nvPr/>
        </p:nvSpPr>
        <p:spPr>
          <a:xfrm>
            <a:off x="3419640" y="1989000"/>
            <a:ext cx="0" cy="18003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17"/>
          <p:cNvSpPr/>
          <p:nvPr/>
        </p:nvSpPr>
        <p:spPr>
          <a:xfrm>
            <a:off x="7524720" y="1989000"/>
            <a:ext cx="0" cy="17272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8"/>
          <p:cNvSpPr/>
          <p:nvPr/>
        </p:nvSpPr>
        <p:spPr>
          <a:xfrm>
            <a:off x="2843280" y="4581360"/>
            <a:ext cx="0" cy="14400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9"/>
          <p:cNvSpPr/>
          <p:nvPr/>
        </p:nvSpPr>
        <p:spPr>
          <a:xfrm>
            <a:off x="826920" y="4869000"/>
            <a:ext cx="289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20"/>
          <p:cNvSpPr/>
          <p:nvPr/>
        </p:nvSpPr>
        <p:spPr>
          <a:xfrm>
            <a:off x="1116000" y="4869000"/>
            <a:ext cx="0" cy="431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21"/>
          <p:cNvSpPr/>
          <p:nvPr/>
        </p:nvSpPr>
        <p:spPr>
          <a:xfrm>
            <a:off x="1116000" y="5300640"/>
            <a:ext cx="1295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22"/>
          <p:cNvSpPr/>
          <p:nvPr/>
        </p:nvSpPr>
        <p:spPr>
          <a:xfrm>
            <a:off x="2411280" y="5300640"/>
            <a:ext cx="0" cy="433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23"/>
          <p:cNvSpPr/>
          <p:nvPr/>
        </p:nvSpPr>
        <p:spPr>
          <a:xfrm>
            <a:off x="2411280" y="5734080"/>
            <a:ext cx="720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A3C9-2DB7-4DEC-9CF4-7FB2432493C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1" name="Object 4"/>
          <p:cNvGraphicFramePr/>
          <p:nvPr/>
        </p:nvGraphicFramePr>
        <p:xfrm>
          <a:off x="324000" y="1820880"/>
          <a:ext cx="8569080" cy="19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20880"/>
                    <a:ext cx="856908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Line 6"/>
          <p:cNvSpPr/>
          <p:nvPr/>
        </p:nvSpPr>
        <p:spPr>
          <a:xfrm>
            <a:off x="2987640" y="2060640"/>
            <a:ext cx="0" cy="14396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7"/>
          <p:cNvSpPr/>
          <p:nvPr/>
        </p:nvSpPr>
        <p:spPr>
          <a:xfrm>
            <a:off x="7308720" y="2060640"/>
            <a:ext cx="0" cy="14396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8"/>
          <p:cNvSpPr/>
          <p:nvPr/>
        </p:nvSpPr>
        <p:spPr>
          <a:xfrm flipH="1">
            <a:off x="7956360" y="2205000"/>
            <a:ext cx="21564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9"/>
          <p:cNvSpPr/>
          <p:nvPr/>
        </p:nvSpPr>
        <p:spPr>
          <a:xfrm>
            <a:off x="8172360" y="2205000"/>
            <a:ext cx="0" cy="432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1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Object 10"/>
          <p:cNvGraphicFramePr/>
          <p:nvPr/>
        </p:nvGraphicFramePr>
        <p:xfrm>
          <a:off x="324000" y="3860640"/>
          <a:ext cx="4752720" cy="18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860640"/>
                    <a:ext cx="4752720" cy="18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Line 12"/>
          <p:cNvSpPr/>
          <p:nvPr/>
        </p:nvSpPr>
        <p:spPr>
          <a:xfrm>
            <a:off x="3995640" y="4076640"/>
            <a:ext cx="0" cy="14400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3CA1-4FF4-4AF0-A162-DEE17CC3BE2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т в е т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5" name="Object 4"/>
          <p:cNvGraphicFramePr/>
          <p:nvPr/>
        </p:nvGraphicFramePr>
        <p:xfrm>
          <a:off x="684360" y="2349360"/>
          <a:ext cx="290340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349360"/>
                    <a:ext cx="290340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Rectangle 7"/>
          <p:cNvSpPr/>
          <p:nvPr/>
        </p:nvSpPr>
        <p:spPr>
          <a:xfrm>
            <a:off x="3473280" y="3969360"/>
            <a:ext cx="8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8" name="Object 6"/>
          <p:cNvGraphicFramePr/>
          <p:nvPr/>
        </p:nvGraphicFramePr>
        <p:xfrm>
          <a:off x="4284720" y="2924280"/>
          <a:ext cx="4608360" cy="26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2924280"/>
                    <a:ext cx="460836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5815-A7A4-46DC-B760-B1A30725F7F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истемы любого числа линейных алгебраических уравнений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828800"/>
            <a:ext cx="8964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Times New Roman"/>
              </a:rPr>
              <a:t>11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,…,a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Times New Roman"/>
              </a:rPr>
              <a:t>mn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, b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,…,b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которые числа. Если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=0,….,b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=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то система называется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линейной  однород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В противном случае система </a:t>
            </a: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66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зывается 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линейной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 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неоднородной  систем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0000"/>
                </a:solidFill>
                <a:uFillTx/>
                <a:latin typeface="Times New Roman"/>
              </a:rPr>
              <a:t>З а м е ч а н и е  </a:t>
            </a:r>
            <a:r>
              <a:rPr b="1" i="1" lang="en-US" sz="2400" spc="-1" strike="noStrike" u="sng">
                <a:solidFill>
                  <a:srgbClr val="660000"/>
                </a:solidFill>
                <a:uFillTx/>
                <a:latin typeface="Times New Roman"/>
              </a:rPr>
              <a:t>1</a:t>
            </a:r>
            <a:r>
              <a:rPr b="1" i="1" lang="ru-RU" sz="2400" spc="-1" strike="noStrike" u="sng">
                <a:solidFill>
                  <a:srgbClr val="660000"/>
                </a:solidFill>
                <a:uFillTx/>
                <a:latin typeface="Times New Roman"/>
              </a:rPr>
              <a:t>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истема </a:t>
            </a:r>
            <a:r>
              <a:rPr b="0" i="1" lang="ru-RU" sz="2400" spc="-1" strike="noStrike">
                <a:solidFill>
                  <a:srgbClr val="66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660000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660000"/>
                </a:solidFill>
                <a:latin typeface="Times New Roman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может быть записана в векторной форме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3851280" y="4292640"/>
          <a:ext cx="1662120" cy="6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4292640"/>
                    <a:ext cx="166212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6"/>
          <p:cNvSpPr/>
          <p:nvPr/>
        </p:nvSpPr>
        <p:spPr>
          <a:xfrm>
            <a:off x="7812360" y="4149360"/>
            <a:ext cx="80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)</a:t>
            </a:r>
            <a:r>
              <a:rPr b="0" lang="ru-RU" sz="48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E2B8-284D-4F85-8B8A-8F5058EC017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истемы любого числа линейных алгебраических уравнений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1979640" y="1844640"/>
          <a:ext cx="1658880" cy="17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844640"/>
                    <a:ext cx="165888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6"/>
          <p:cNvSpPr/>
          <p:nvPr/>
        </p:nvSpPr>
        <p:spPr>
          <a:xfrm>
            <a:off x="3783240" y="2133000"/>
            <a:ext cx="417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ктор–столбец неизвестных,</a:t>
            </a:r>
            <a:r>
              <a:rPr b="0" lang="ru-RU" sz="48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7"/>
          <p:cNvGraphicFramePr/>
          <p:nvPr/>
        </p:nvGraphicFramePr>
        <p:xfrm>
          <a:off x="1908000" y="3716280"/>
          <a:ext cx="1800360" cy="177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3716280"/>
                    <a:ext cx="1800360" cy="17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Rectangle 9"/>
          <p:cNvSpPr/>
          <p:nvPr/>
        </p:nvSpPr>
        <p:spPr>
          <a:xfrm>
            <a:off x="3711960" y="4076280"/>
            <a:ext cx="499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ктор–столбец  свободных членов,</a:t>
            </a:r>
            <a:r>
              <a:rPr b="0" lang="ru-RU" sz="48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E54B-CD6E-4D8C-B029-B44F04D629F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истемы любого числа линейных алгебраических уравнений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О п р е д е л е н и е  </a:t>
            </a:r>
            <a:r>
              <a:rPr b="1" lang="en-US" sz="2400" spc="-1" strike="noStrike">
                <a:solidFill>
                  <a:srgbClr val="66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Расширенной матриц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истемы </a:t>
            </a: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66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зывается матрица, обозначаем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полученная приписыванием к  матрице  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справа после вертикальной черты столбц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1979640" y="1844640"/>
          <a:ext cx="3311640" cy="22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844640"/>
                    <a:ext cx="3311640" cy="22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6"/>
          <p:cNvSpPr/>
          <p:nvPr/>
        </p:nvSpPr>
        <p:spPr>
          <a:xfrm>
            <a:off x="5365440" y="2564640"/>
            <a:ext cx="261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рица системы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Object 7"/>
          <p:cNvGraphicFramePr/>
          <p:nvPr/>
        </p:nvGraphicFramePr>
        <p:xfrm>
          <a:off x="6084720" y="4508640"/>
          <a:ext cx="100836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4720" y="4508640"/>
                    <a:ext cx="10083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Object 9"/>
          <p:cNvGraphicFramePr/>
          <p:nvPr/>
        </p:nvGraphicFramePr>
        <p:xfrm>
          <a:off x="4859280" y="5229360"/>
          <a:ext cx="36036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5229360"/>
                    <a:ext cx="3603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Rectangle 11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6F89-5293-49A6-8AD6-064326B2AAF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476360" y="1989000"/>
          <a:ext cx="3889440" cy="21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989000"/>
                    <a:ext cx="3889440" cy="21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истемы любого числа линейных алгебраических уравнений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О п р е д е л е н и е  </a:t>
            </a:r>
            <a:r>
              <a:rPr b="1" lang="en-US" sz="2400" spc="-1" strike="noStrike">
                <a:solidFill>
                  <a:srgbClr val="66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Решение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ы </a:t>
            </a: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66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зывается любой 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n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ерный  векто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становка которого в </a:t>
            </a: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66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ает тождест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4211640" y="2421000"/>
            <a:ext cx="0" cy="1728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7"/>
          <p:cNvSpPr/>
          <p:nvPr/>
        </p:nvSpPr>
        <p:spPr>
          <a:xfrm>
            <a:off x="4788000" y="2133720"/>
            <a:ext cx="0" cy="18716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Object 8"/>
          <p:cNvGraphicFramePr/>
          <p:nvPr/>
        </p:nvGraphicFramePr>
        <p:xfrm>
          <a:off x="4427640" y="4941720"/>
          <a:ext cx="38088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4941720"/>
                    <a:ext cx="38088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1F0C-6BDE-470B-8CB2-9BE5DAB39F2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истемы любого числа линейных алгебраических уравнений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О п р е д е л е н и е  </a:t>
            </a:r>
            <a:r>
              <a:rPr b="1" lang="en-US" sz="2400" spc="-1" strike="noStrike">
                <a:solidFill>
                  <a:srgbClr val="660000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а называется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совмест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если она имеет хотя бы одно решение. В противном случае система называется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несовмест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00"/>
                </a:solidFill>
                <a:uFillTx/>
                <a:latin typeface="Times New Roman"/>
              </a:rPr>
              <a:t>Т е о р е м а  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0" i="1" lang="ru-RU" sz="2400" spc="-1" strike="noStrike">
                <a:solidFill>
                  <a:srgbClr val="ff0066"/>
                </a:solidFill>
                <a:latin typeface="Times New Roman"/>
              </a:rPr>
              <a:t>Кронекера – Капелли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)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истема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(1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вместна тогда и только тогда, когда ранг матрицы системы равен рангу расширенной матрицы, то есть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этом  если                то система имеет единственное решение; если                 то система имеет бесконечное множество решений (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исло неизвестных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3635280" y="4365720"/>
          <a:ext cx="244800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4365720"/>
                    <a:ext cx="244800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Object 6"/>
          <p:cNvGraphicFramePr/>
          <p:nvPr/>
        </p:nvGraphicFramePr>
        <p:xfrm>
          <a:off x="2987640" y="5013360"/>
          <a:ext cx="1152720" cy="44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5013360"/>
                    <a:ext cx="115272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Object 8"/>
          <p:cNvGraphicFramePr/>
          <p:nvPr/>
        </p:nvGraphicFramePr>
        <p:xfrm>
          <a:off x="2916360" y="5373720"/>
          <a:ext cx="1224000" cy="46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16360" y="5373720"/>
                    <a:ext cx="122400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3A26-713D-491F-A056-FC432213E34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истемы любого числа линейных алгебраических уравнений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8920" y="1828800"/>
            <a:ext cx="8713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3300"/>
                </a:solidFill>
                <a:uFillTx/>
                <a:latin typeface="Times New Roman"/>
              </a:rPr>
              <a:t>Т е о р е м а  2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 систем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(2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меет вид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             частное решение линейной  неоднородной системы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(2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число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называемое числом свободных неизвестных системы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вычисляется по формул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вольные постоянные числа;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стоянны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n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ерные векторы, являющиеся линейно независимыми решениями соответствующей линейной однородной систем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1763640" y="2276640"/>
          <a:ext cx="4537080" cy="76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276640"/>
                    <a:ext cx="453708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Rectangle 6"/>
          <p:cNvSpPr/>
          <p:nvPr/>
        </p:nvSpPr>
        <p:spPr>
          <a:xfrm>
            <a:off x="7957800" y="2348640"/>
            <a:ext cx="69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(3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Object 7"/>
          <p:cNvGraphicFramePr/>
          <p:nvPr/>
        </p:nvGraphicFramePr>
        <p:xfrm>
          <a:off x="1403280" y="3068640"/>
          <a:ext cx="792360" cy="5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3068640"/>
                    <a:ext cx="79236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11"/>
          <p:cNvGraphicFramePr/>
          <p:nvPr/>
        </p:nvGraphicFramePr>
        <p:xfrm>
          <a:off x="5219640" y="1773360"/>
          <a:ext cx="122400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19640" y="1773360"/>
                    <a:ext cx="12240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Object 13"/>
          <p:cNvGraphicFramePr/>
          <p:nvPr/>
        </p:nvGraphicFramePr>
        <p:xfrm>
          <a:off x="7488360" y="3860640"/>
          <a:ext cx="1655640" cy="447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488360" y="3860640"/>
                    <a:ext cx="165564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Object 15"/>
          <p:cNvGraphicFramePr/>
          <p:nvPr/>
        </p:nvGraphicFramePr>
        <p:xfrm>
          <a:off x="539640" y="4268880"/>
          <a:ext cx="1656000" cy="544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8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4268880"/>
                    <a:ext cx="165600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Object 17"/>
          <p:cNvGraphicFramePr/>
          <p:nvPr/>
        </p:nvGraphicFramePr>
        <p:xfrm>
          <a:off x="6732720" y="4221000"/>
          <a:ext cx="1368360" cy="552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1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32720" y="4221000"/>
                    <a:ext cx="136836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Object 19"/>
          <p:cNvGraphicFramePr/>
          <p:nvPr/>
        </p:nvGraphicFramePr>
        <p:xfrm>
          <a:off x="3635280" y="5373720"/>
          <a:ext cx="1297080" cy="52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4" name="Object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35280" y="5373720"/>
                    <a:ext cx="12970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6A25-716B-4262-B24D-6741B772F47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истемы любого числа линейных алгебраических уравнений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8920" y="1828800"/>
            <a:ext cx="8713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Метод  Гаусс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решения системы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 матрицей 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размерности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и столбцом свободных членов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нужно выполнить следующие действ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ить расширенную матриц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привести ее к ступенчатому виду с помощью элементарных преобразований стро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Если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исать ответ:  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система несовмест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делать выводы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4643280" y="2781360"/>
          <a:ext cx="36036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781360"/>
                    <a:ext cx="3603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6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Object 7"/>
          <p:cNvGraphicFramePr/>
          <p:nvPr/>
        </p:nvGraphicFramePr>
        <p:xfrm>
          <a:off x="5724360" y="3573360"/>
          <a:ext cx="100836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3573360"/>
                    <a:ext cx="100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Object 9"/>
          <p:cNvGraphicFramePr/>
          <p:nvPr/>
        </p:nvGraphicFramePr>
        <p:xfrm>
          <a:off x="1692360" y="4724280"/>
          <a:ext cx="2016000" cy="62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4724280"/>
                    <a:ext cx="201600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Object 11"/>
          <p:cNvGraphicFramePr/>
          <p:nvPr/>
        </p:nvGraphicFramePr>
        <p:xfrm>
          <a:off x="1692360" y="5589720"/>
          <a:ext cx="2087640" cy="65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0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92360" y="5589720"/>
                    <a:ext cx="20876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07:30:53Z</dcterms:created>
  <dc:creator>к.502</dc:creator>
  <dc:description/>
  <dc:language>en-US</dc:language>
  <cp:lastModifiedBy>квм</cp:lastModifiedBy>
  <dcterms:modified xsi:type="dcterms:W3CDTF">2014-10-14T07:58:55Z</dcterms:modified>
  <cp:revision>6</cp:revision>
  <dc:subject/>
  <dc:title>Системы линейных алгебраических уравнений:</dc:title>
</cp:coreProperties>
</file>